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4AC6-A2CE-4EC9-9938-0A477F40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CE4-4CFC-4207-BCC1-88D4EBF4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B025-9619-4145-A01B-C743C890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90A-EF1E-481A-ADFB-A6D0D62F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9A6-B9B2-4741-8FDD-5E0DB11C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AC6B-BFCC-4FC6-B42A-2F8B1CB1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AF37-276B-483D-A763-88D6731F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66E-B494-4443-AE63-8FA9CCDF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D9B-0CA1-4A8D-B227-E30DC91C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DFB-B235-4FAE-AEF5-40B7B399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F74-B10C-4C99-B6F3-C8B87EE3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E82-8EBA-4C8F-B872-29A3BE60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B92D-C311-46F8-A7E7-822A2A317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2525"/>
                </a:solidFill>
                <a:latin typeface="Arial"/>
              </a:rPr>
              <a:t>Cortez and Pizarro/Aztecs, Incas, Mayas 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2525"/>
                </a:solidFill>
                <a:latin typeface="Arial"/>
              </a:rPr>
              <a:t>By: Lizzie and Ar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2655720" cy="3047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88720" y="46476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2560" y="3048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4191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304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Arial"/>
              </a:rPr>
              <a:t>*The Aztecs were polytheistic (believe in many gods). Such as Quetzalcoatl (a pale skinned bearded go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Arial"/>
              </a:rPr>
              <a:t>*The Aztecs made human sacrifice to please their g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Arial"/>
              </a:rPr>
              <a:t>*Their capital was Tenochtitlan, it was surrounded on water too keep out enem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Arial"/>
              </a:rPr>
              <a:t>*The Aztecs died when the Spanish brought smallpox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2076480" cy="2095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5360" y="601920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.calpoly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33720" y="1371600"/>
            <a:ext cx="2143080" cy="2133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83960" y="9900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They lived on the Mexican Cost that was the Yucatan Penins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The Mayas were polytheistic. (They believed in many god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They had slaves that they sometimes let fre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209680" cy="2743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29200" y="304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k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77120" y="609480"/>
            <a:ext cx="1971720" cy="2324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8240" y="2278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acc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he Inca civilization had about 20,000,000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hey lived in the Andes mountains in Pe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heir capital was Cuz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1852560" cy="2162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40960" y="36568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p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438280" y="2133720"/>
            <a:ext cx="2057400" cy="1873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16760" y="182808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t.uark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rtez conquered the Azte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e was successful because he killed the Aztecs emper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rtez was mistaken for Quetzalcoatl (a go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en he conquered the Aztecs he brought about 500 men and 16 horses in 15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595680" cy="457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74720" y="129456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izarro conquered the In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e was successful because he kidnapped their emperor Atahualpa (an emperor) and sent out a rans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When he got what he wanted he killed Atahualpa any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354120" cy="4496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5680" y="10659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usf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ebd1"/>
                </a:solidFill>
                <a:latin typeface="Arial"/>
              </a:rPr>
              <a:t>Conclu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eb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ebd1"/>
                </a:solidFill>
                <a:latin typeface="Arial"/>
              </a:rPr>
              <a:t>How did the Spanish conquistadors  and change Central and South America fore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eb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ebd1"/>
                </a:solidFill>
                <a:latin typeface="Arial"/>
              </a:rPr>
              <a:t>The conquistadors (people who conquered) changed their language to Span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eb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ebd1"/>
                </a:solidFill>
                <a:latin typeface="Arial"/>
              </a:rPr>
              <a:t>Today in Central and South America all lot  of people are Christian and the don’t worship their native g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eb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ebd1"/>
                </a:solidFill>
                <a:latin typeface="Arial"/>
              </a:rPr>
              <a:t>Most of the Aztecs, Mayas, and Incas culture and tradition became extinct for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28:20Z</dcterms:created>
  <dc:creator>JKlib</dc:creator>
  <dc:description/>
  <dc:language>en-US</dc:language>
  <cp:lastModifiedBy>jklib</cp:lastModifiedBy>
  <dcterms:modified xsi:type="dcterms:W3CDTF">2011-11-29T14:41:48Z</dcterms:modified>
  <cp:revision>9</cp:revision>
  <dc:subject/>
  <dc:title>Cortez and Pizarro/Aztecs, Incas, Mayas Power point</dc:title>
</cp:coreProperties>
</file>